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A87-95DE-447F-8975-0ABBFF5E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153-A5A0-4893-9F09-980949DF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34E-D72D-45F1-A783-D711D88C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557-A85E-4843-8D1E-C6086FC0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A32-8FCD-473A-A800-E917E859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04E-7BA8-4B5B-A2DF-EA72F0FE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09D-B4A7-4511-A177-59FFF3C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A0C-5957-472F-83FC-40850E10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DA2-8883-4A36-8D48-D15C2940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FA2-3EE0-4478-A6DC-41A9B03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8E8-85F2-4396-BE2A-D0C3CE6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E83-2C93-4E88-86C7-DC75267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0C04-F9DD-43BD-86C7-06CD9CBE96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7C9-C0A5-42FC-8051-9579546B5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forms have you seen in your lifeti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349360" y="69840"/>
            <a:ext cx="444528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58720" y="249120"/>
            <a:ext cx="797580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he "Ladies of Logan" sing hymns in front of ba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295280" y="1565280"/>
            <a:ext cx="70106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077920" y="228600"/>
            <a:ext cx="5008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lit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930320" y="1397160"/>
            <a:ext cx="538488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3206880" cy="376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3868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510552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erick Doug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000680" cy="469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5029200" y="1447920"/>
            <a:ext cx="32767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Abolitionism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men's Righ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eca Falls Convention in 1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d by Lucretia Mott + Elizabeth Cady Stant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an movement for women’s rights (suffrage move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ation of Sent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old these truths to be self-evident: all men and women are created equ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-1031760" y="1536840"/>
            <a:ext cx="10175760" cy="5324400"/>
            <a:chOff x="-1031760" y="1536840"/>
            <a:chExt cx="10175760" cy="5324400"/>
          </a:xfrm>
        </p:grpSpPr>
        <p:sp>
          <p:nvSpPr>
            <p:cNvPr id="46" name="Freeform 4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2e5c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5"/>
            <p:cNvSpPr/>
            <p:nvPr/>
          </p:nvSpPr>
          <p:spPr>
            <a:xfrm>
              <a:off x="-1031760" y="1536840"/>
              <a:ext cx="6713280" cy="5324400"/>
            </a:xfrm>
            <a:prstGeom prst="pie">
              <a:avLst/>
            </a:prstGeom>
            <a:noFill/>
            <a:ln cap="rnd"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Age of Re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esticity and Marri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oncepts of family’s role in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ssumed crucial role within home (cult of domesti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ves became more of a companion to their husbands and less of a serv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The Cult of True Womanhood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d women in the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rified home as center of all efforts to civilize and “Christianize”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60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ace 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lsory, publicly funded (state/local) education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important part of school was Moral indoctr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families disliked education b/c it took away needed wage ear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as means to improving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5020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 Ideas &amp; Experiments:  Utopia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opian socialis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ired by 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Harmony, Indi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us utopi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ida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DIVI7233244"/>
          <p:cNvPicPr/>
          <p:nvPr/>
        </p:nvPicPr>
        <p:blipFill>
          <a:blip r:embed="rId2"/>
          <a:stretch/>
        </p:blipFill>
        <p:spPr>
          <a:xfrm>
            <a:off x="4871880" y="1523880"/>
            <a:ext cx="42721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cal Ideas &amp; Experiments:  Transcendental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lph Waldo Em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ism, self-re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Rip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ed cooperative community at Brook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 at utopian refo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rmony/cooperation to replace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David Thoreau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l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picture Abraham Lincoln with a beard. The truth is, he was clean shaven all of his life until just shortly before the election that made him the 16th Presid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Grover Cleveland was married in office. Not unusual. But he was 49 and his bride, Frances Folsom, who was only 2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person to become president who was born in a hospital was Jimmy Car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se of Evangelic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ion of church and state gave all churches the chance to compete for conv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revivals stimulated 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825560" y="3333600"/>
            <a:ext cx="510876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cond Great Awake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ed in the South but took off in the North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ch of the impulse toward reform was rooted in revivals of the broad religious movement that swept across the United States from the 1830’s through the 1850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achers rejected the 1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entury Calvinistic belief that God predetermined one’s salvation and damn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began to follow the democratic view of God, the possibility of salvation to all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vals led to organization of more chur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hasized free will, salvation, e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amp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073160" y="1701720"/>
            <a:ext cx="6997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68240" y="990720"/>
            <a:ext cx="760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reat Awakening in African America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155600" y="2133720"/>
            <a:ext cx="69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nce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85800" y="1452600"/>
            <a:ext cx="8001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2:51:29Z</dcterms:created>
  <dc:creator>CMU</dc:creator>
  <dc:description/>
  <cp:keywords/>
  <dc:language>en-US</dc:language>
  <cp:lastModifiedBy>Buffalo Grive High School</cp:lastModifiedBy>
  <cp:lastPrinted>2012-10-11T23:32:59Z</cp:lastPrinted>
  <dcterms:modified xsi:type="dcterms:W3CDTF">2011-11-08T17:10:16Z</dcterms:modified>
  <cp:revision>39</cp:revision>
  <dc:subject/>
  <dc:title>CHAPTER 11  THE PURSUIT OF PERFECTION</dc:title>
</cp:coreProperties>
</file>